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push.wav" ContentType="audio/x-wav"/>
  <Override PartName="/ppt/media/chimes.wav" ContentType="audio/x-wav"/>
  <Override PartName="/ppt/media/image1.png" ContentType="image/png"/>
  <Override PartName="/ppt/media/image3.jpeg" ContentType="image/jpeg"/>
  <Override PartName="/ppt/media/image2.png" ContentType="image/png"/>
  <Override PartName="/ppt/media/bomb.wav" ContentType="audio/x-wav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5A7E4-6D46-43D2-B512-533E07A3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3B610-E87B-4BCC-AB41-0653ED27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2E1D7-C010-4C01-940B-4D72B6D35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EA65E-804A-43A5-840B-52CA2387C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4C75-BE6F-4391-9727-6B4C54E7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76B0-4D84-4B0A-A77B-D7F8EFD5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D2C2-E730-4177-A125-C8A9ECC1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C3EF-F56A-4940-9EF4-A48850A4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D51C-09A0-4FF6-9794-64A80ED5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09A4-1002-4510-84C4-DB064CDF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B279-866C-449B-AC5C-38C52A1D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4BA23-FA78-4709-A286-18C14032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8852-390A-45E2-864D-3CEEA698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B64C-AB90-4B89-80EA-71640F91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E9F5-D236-4EBD-95B0-632EC22F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EB93-B0FE-4F41-88C3-ECCB7E14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5DA4-3BF8-43C8-92F9-13009E450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D5BCA-FD51-4F0B-9534-8C2CB765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2801C-2A0C-49E7-80AA-FA746EAD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6941F-9D48-4005-B777-F93BBB89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383D9-FB87-4678-BCD1-E4A3086F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D87C1-7BD6-4E66-BE81-120663AB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87468-F00B-4471-A975-FA50D8FB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15598-088C-4003-80A1-F2699803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59E3-50A8-4866-960F-C9AFE72CCC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B5AD-FC8C-46CD-91B8-A9ED91290CC0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ABCC-FA33-4CDA-A4C9-5A5D5D6EF42B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132D-2C17-4774-BA1A-81BCAAAD30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8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E73D-C03F-44F4-B9BA-C2D2F800306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ВИКТОРИН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РЕЖЁНОГО БОГ БЕРЕЖЁ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пожарная безопасност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От чего люди гибнут на пожаре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ahoma"/>
              </a:rPr>
              <a:t>От дыма, огня, ядовитых газов, потери созн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4740"/>
                </a:solidFill>
                <a:latin typeface="Tahoma"/>
              </a:rPr>
              <a:t>ЗАГАД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Шипит и злится, воды боится. С языком, а не лает, без зубов, а кусае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0f0"/>
                </a:solidFill>
                <a:latin typeface="Tahoma"/>
              </a:rPr>
              <a:t>(Огон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Накормишь - живет. Напоишь - умре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0f0"/>
                </a:solidFill>
                <a:latin typeface="Tahoma"/>
              </a:rPr>
              <a:t>(Пожар, огон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4740"/>
                </a:solidFill>
                <a:latin typeface="Tahoma"/>
              </a:rPr>
              <a:t>ЗАГАД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В деревянном домике проживают гномики, уж такие добряки раздают всем огоньк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Tahoma"/>
              </a:rPr>
              <a:t>(Спичк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Голова огнем пылает. Тело тает и сгорает. Я полезной быть хочу. Лампы нет я посвеч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Tahoma"/>
              </a:rPr>
              <a:t>(Свеча)</a:t>
            </a:r>
            <a:r>
              <a:rPr b="0" lang="en-US" sz="3200" spc="-1" strike="noStrike">
                <a:solidFill>
                  <a:srgbClr val="0070c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ИГРОВЫЕ СИТУ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вас загорелся телевизор. Ваши действия? Что делать нельз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Обесточу, накрою влажным одеялом. Нельзя поливать вод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ИГРОВЫЕ СИТУ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сковороде горит масло. Ваши действия? Что делать нельз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Отключу плиту. Закрою крышкой или влажным полотенце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Нельзя ставить сковороду под вод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ИГРОВЫЕ СИТУ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вас горит одежда. Ваши действия? Что делать нельз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Упаду, буду кататься по полу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накрою себя одеял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Нельзя убега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ИГРОВЫЕ СИТУ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 видите человека в горящей одежде. Что нужно делать? Что делать нельз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Повалю на пол, накрою курткой, одеял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Нельзя тушить из огнетушител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5e500"/>
            </a:gs>
            <a:gs pos="100000">
              <a:srgbClr val="f8b0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Отгадай ключевое слово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964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Если по горизонтали впишете правильные ответы, то в выделенном вертикальном столбце прочтёте ключевое слов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Вопросы по горизонта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Из-за неосторожного обращения с ним может возникнуть пожа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Опасный бытовой прибо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Травма, которую может получить человек при небрежном обращении с огнё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Длинное вспомогательное средство с поперечными перекладинами, используемое спасателями для эвакуации людей из высотных зда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Первичное средство пожаротуш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8497800" cy="237636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push.wav"/>
      </p:stSnd>
    </p:sndAc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ответ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523880" y="2224080"/>
          <a:ext cx="6905880" cy="3633840"/>
        </p:xfrm>
        <a:graphic>
          <a:graphicData uri="http://schemas.openxmlformats.org/drawingml/2006/table">
            <a:tbl>
              <a:tblPr/>
              <a:tblGrid>
                <a:gridCol w="432000"/>
                <a:gridCol w="431640"/>
                <a:gridCol w="432000"/>
                <a:gridCol w="431640"/>
                <a:gridCol w="430200"/>
                <a:gridCol w="432000"/>
                <a:gridCol w="431640"/>
                <a:gridCol w="431640"/>
                <a:gridCol w="432000"/>
                <a:gridCol w="431640"/>
                <a:gridCol w="432000"/>
                <a:gridCol w="431640"/>
                <a:gridCol w="430200"/>
                <a:gridCol w="432000"/>
                <a:gridCol w="431640"/>
                <a:gridCol w="432000"/>
              </a:tblGrid>
              <a:tr h="7272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к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d0d0d"/>
                          </a:solidFill>
                          <a:latin typeface="Script MT Bold"/>
                        </a:rPr>
                        <a:t>о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с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ё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р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у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ю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d0d0d"/>
                          </a:solidFill>
                          <a:latin typeface="Script MT Bold"/>
                        </a:rPr>
                        <a:t>г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257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о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ж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d0d0d"/>
                          </a:solidFill>
                          <a:latin typeface="Script MT Bold"/>
                        </a:rPr>
                        <a:t>о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г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68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л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е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с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d0d0d"/>
                          </a:solidFill>
                          <a:latin typeface="Script MT Bold"/>
                        </a:rPr>
                        <a:t>н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и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ц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а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72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о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г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н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е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у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ш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и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е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л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d0d0d"/>
                          </a:solidFill>
                          <a:latin typeface="Script MT Bold"/>
                        </a:rPr>
                        <a:t>ь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newsflash/>
    <p:sndAc>
      <p:stSnd>
        <p:snd r:embed="rId1" name="push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206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Что такое эвакуаци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Это экстренный выход из опасной зоны при Ч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e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060"/>
                </a:solidFill>
                <a:latin typeface="Tahoma"/>
              </a:rPr>
              <a:t>Обеспечьте пожарную безопасность квартиры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Найдите в течение 2-х минут нарушения ПБ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1428840" y="2143080"/>
            <a:ext cx="6572160" cy="42782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push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206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Что содержится в пожарном ящике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топор, лопата, огнетушитель, багор, и ящик с песк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u"/>
    <p:sndAc>
      <p:stSnd>
        <p:snd r:embed="rId1" name="chimes.wav"/>
      </p:stSnd>
    </p:sndAc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В каком виде необходимо содержать электроприборы и электрическое оборудова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А) 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следует убирать их в шкаф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Б) следует хранить в коробк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следует содержать в исправном вид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следует содержать в рабочем состоянии выключатели, вилки, розетки, электроснабж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В каком виде необходимо содержать электроприборы и электрическое оборудова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следует содержать в исправном вид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следует содержать в рабочем состоянии выключатели, вилки, розетки, электроснабж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Как рекомендуется преодолевать горящее помещение при выходе из нег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А) бег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Б) ползк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накрывшись с головой мокрым одеялом, плотной тканью или верхней одеждо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дышать через увлажнённую тка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Как рекомендуется преодолевать горящее помещение при выходе из нег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накрывшись с головой мокрым одеялом, плотной тканью или верхней одеждо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Как нужно продвигаться через сильно задымлённое помеще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А) 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 полный рост и бег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Б) в полный рост медленн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скачкам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ползком или пригнувшись, придерживаясь за сте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Как нужно продвигаться через сильно задымлённое помеще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ползком или пригнувшись, придерживаясь за сте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Что необходимо предпринять человеку, чтобы не потерять ориентировку в сильно задымлённом помещен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А) 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держать равновес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Б) придерживаться палкой потол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придерживаться стен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следует опираться на пол рук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Что необходимо предпринять человеку, чтобы не потерять ориентировку в сильно задымлённом помещен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придерживаться стен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7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E21A-5366-4FD2-9CF4-61FBA1F1DF9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удьте всегда бдительны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блюдайте требова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ЖАРНОЙ БЕЗОПАСНОСТИ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2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0" dur="2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7030a0"/>
                </a:solidFill>
                <a:latin typeface="Tahoma"/>
              </a:rPr>
              <a:t>Нарушения пожарной безопасности в квартире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Лампа накрыта ткан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Розетка на стене перегруже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Утюг включё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Электрокабель под коврик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Занавеска находится слишком близко от пли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Полка висит над плит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Полотенце висит над плит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25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Почему номер пожарной службы «01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ahoma"/>
              </a:rPr>
              <a:t>Легко запомнить, короткий номер, логично набрать даже в темноте</a:t>
            </a:r>
            <a:r>
              <a:rPr b="1" lang="en-US" sz="3200" spc="-1" strike="noStrike">
                <a:solidFill>
                  <a:srgbClr val="ebf25a"/>
                </a:solidFill>
                <a:latin typeface="Script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Что нужно сделать, когда уходишь из квартиры, чтобы не допустить пожара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ahoma"/>
              </a:rPr>
              <a:t>Выключить  свет, отключить электроприбо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Можно ли бить оконные стекла в очаге возгорани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ahoma"/>
              </a:rPr>
              <a:t>Нельзя, так как поступающий воздух усиливает гор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Что нужно делать, если огонь отрезал путь к выходу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ahoma"/>
              </a:rPr>
              <a:t>Уйти в дальнюю комнату, плотно закрыть дверь, через окно или балконную дверь кричать о помощи. Прохожие вызовут «01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Назовите три любые причины пожар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Tahoma"/>
              </a:rPr>
              <a:t>Непотушенная сигарета, игра со спичками, неотключённая электроплита</a:t>
            </a:r>
            <a:r>
              <a:rPr b="1" lang="ru-RU" sz="3200" spc="-1" strike="noStrike">
                <a:solidFill>
                  <a:srgbClr val="cc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Назовите три любые причины пожар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Tahoma"/>
              </a:rPr>
              <a:t>Непотушенная сигарета, игра со спичками, неотключенная электроплита</a:t>
            </a:r>
            <a:r>
              <a:rPr b="1" lang="ru-RU" sz="3200" spc="-1" strike="noStrike">
                <a:solidFill>
                  <a:srgbClr val="ebf25a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2:03:02Z</dcterms:created>
  <dc:creator/>
  <dc:description/>
  <dc:language>en-US</dc:language>
  <cp:lastModifiedBy>Comp</cp:lastModifiedBy>
  <dcterms:modified xsi:type="dcterms:W3CDTF">2014-09-02T16:41:10Z</dcterms:modified>
  <cp:revision>46</cp:revision>
  <dc:subject/>
  <dc:title>ВИКТОРИНА</dc:title>
</cp:coreProperties>
</file>